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66A-1C82-4B24-A871-4FEE1A83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8FD-27E7-4CBC-8891-83FD1283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C1D0C-FC43-48D6-9128-800C1630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EFD67-2F2D-4EFE-A06A-0B4AE944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DDF9C-975B-4140-A66C-CB970A5D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90D4B-691A-43EC-8556-7CF93161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CA72B-EE69-4E27-B3CE-02550841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8F66B-5390-4942-9507-A342F98A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ECF63-E8AF-4DDC-A2AF-E9825406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EC032-5AD4-465C-ABC1-11C8E939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BE4AD-35E2-47E1-B348-5D001B06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1A665-4573-4BD4-B4A7-9098A3D4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47A-A031-48CC-83DC-D3BDA3F8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67D55-FA1A-4B89-943D-31DDF1DA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814C8-5F59-4902-AD73-42FCD468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B0D22-AFE2-49CD-A4B9-C84F2F1D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43828-8241-4D65-B9F8-48ADAD72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58BD2-041F-4C16-918C-B3CCEBA2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35585-127A-4786-ABBE-32465875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51DF1-4485-434D-9EB2-E2275AF8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53966-AA5D-4020-879B-ACF7B78E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B517A-4688-436C-A448-9870A0F3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038C2-01A1-4D2B-ADE6-2BFFAE53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6EC-2C1F-4567-A37A-9134251A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914C8-C479-4CAB-B9CE-08014067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E6319-756D-426A-82AD-2380651D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BAAB7-D975-4836-8027-A136A3D3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B102D-4EB8-41F0-A22B-3B56C459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8C8FA-8148-4770-96BA-E7253D8C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476BB-A929-4CF8-9C04-735C1A20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D1BCC-63BF-48E1-AFA7-2D230560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62118-CCA2-49C3-BF7B-6F25C4DD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3C730-AEF0-4BB8-89D7-F7D4D133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7E3A5-22A9-4E2C-B82C-87855100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90E2-5334-4560-92C3-4034FF73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8601D-549B-41B0-929C-D1934E7D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C6118-E7D9-4CA8-AD42-50A75289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673F5-82C1-49F8-8684-CA7F0C5B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F805B-257C-4909-99AF-ABADAAA6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1352A-E02B-4A1F-A4D3-60501C1D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901D3-6B4F-4E1F-8721-E4626040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401C9-C3B9-4287-9B22-B132714D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05DFE-3AD0-40C3-A872-B7D1DAFE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A914B-381F-4B27-B940-08569002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709C1-4831-4BA6-A05F-3929A04F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480D-FF2F-4692-81A6-18C90ED5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8F6B7-0A43-4C1B-9DB4-C8D3E4C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D5F42-457D-4698-9914-8EDA27ED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598E8-F8D1-487B-BFB9-D09C27D8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F050C-1342-40CF-B8CA-10481EF0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527AC-C47C-4071-BA3E-FB0CFF67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BB0E3-BEE4-450A-A758-6C850E49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CA17E-9E65-4787-9B90-24C011F7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80969-4AC1-4BE0-860C-20AC4C95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7627D-5853-45EA-96D6-45B96051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80AEB-CE80-4752-9811-17EAD10E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0D7D-AAC8-40DE-8AA7-3B465440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55E30-9CC1-42FA-8909-C0993D22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D3BB5-121F-480D-9EE3-76F61595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A79E7-0617-4F55-9B8A-5CBF1C91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45F54-A915-4E0A-B0F4-885E62DD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50EDB-974D-4756-B3E7-4A01C2ED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DFDF8-2D3D-4301-837C-0A0BEA05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FBCE0-6014-4195-9F1D-A9BFD639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B6877-F2B9-4799-894A-8733971B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95A22-BB3F-4D4C-A786-2BE5C422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558A7-55ED-4E3B-A171-452F7B2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EF95-EB52-450E-A65F-8CF3429D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81768-6AE6-4F37-A42A-358F03A7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F2207-F71A-4135-B3F1-7C78943D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35558-A850-4F0E-B537-5F29A1FE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87629-9809-43F5-AD1D-5D134DF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C24D5-B71C-4B12-86E7-666D275F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15FD8-5AF1-477A-8B8A-57E1376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373B9-FE00-44F5-92C7-DA15DC53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62C58-DCE7-4FAC-AC3D-C12EC250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11772-5A69-4348-BDC1-7CFBEF53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16572-74DB-403C-BD61-7F0992C5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922D-C203-42D8-A4F0-BEC411FA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91B9E-9CB9-4BFF-9FB4-D812C8F6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82783-288D-405E-A47A-F6A259D3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EE2C9-C705-45DE-9686-B8161FE7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F2A2A-52CA-4376-BDE1-AD7900B6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A67F01-E44B-4A75-8344-15B9F09F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CE9BD-81E9-45F6-8C78-E8EBB586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44CB3-AC5A-4B4A-8FFF-6CEB1825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D75BF-ACA8-4848-9E33-F2884AC8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05B88-68E9-4A66-93E2-25015E93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7ADED-5A13-4B78-B5DC-AF8943B3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DA04-B4ED-4841-8CB2-9FEB51BF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C700F-CE62-4E01-876B-12355094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D4AB7-8871-4C0A-8B4A-84924EF4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FCEFD-98FF-46ED-A536-0E235365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75D74-BD77-4A46-A26A-CA47C7BF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036AA9-5B8B-41C1-9C21-39581D02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B0FFA-1EDE-47BB-A9EA-A4A460DB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A4163-1311-44CF-A2D3-2FFCA25A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FBCE0-0F5E-4683-8221-64C128C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FE0C0-F9EA-4FB5-8AD4-E12467B3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83934-0FBE-4126-857B-2883F327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1201-0619-4CB0-B5D2-BDF21680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59E4A-1B16-4263-9898-77FA1FE2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BD4B11-7CE2-4E57-935E-6E9F4172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24E65-0EDD-4D35-A092-45407CE4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28CBA-7016-47C9-85EB-5BF2C1D3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A6291-2C6A-4DD3-A41A-8C70DD4C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686C8-8F40-4D89-9258-25CA2A89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784C0-17C4-449D-B2FB-1A72DBA2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7730BA-3D0E-4FE5-ADD6-D4F3C5FD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F7135-9CDC-4F9B-80C4-BFBD513A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A801B-76EB-4091-AF71-7B468410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6F0-56DF-4481-8701-91FDF626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6733-FDDC-4048-A9D1-9924903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2E701-E1DA-4C82-BCEA-6934FF9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5D27E-3D92-473E-9D0D-ECEC60FB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E9DBCE-C250-4A0E-8F4F-45A64BB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F550DE-5BAB-4A16-9721-E2C3BD7E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3B5BB-92DD-4D6C-80D5-B0F7F05A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E83DD-A2E2-44FD-8F06-33274C1A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7D3AE1-6805-4363-A928-9D95A029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CFE33-175B-4235-8522-39505C94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C4C6AD-5DF7-4AAD-988A-0B517075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E8150-623F-41F2-8000-15DB38D5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86D8-75E2-4AB2-85E7-4233E4B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4E862-850B-4FB6-BE72-8197EF48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F00FF-6290-406D-BEDA-9F518E89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745D7-4E9B-4365-B18D-3211A539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7DA9C7-9C0F-46E0-AE95-E373BE14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20B41-4638-48C5-A407-046BBA8F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03BD5-D4D7-46A1-834E-654B0197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6C971-E4F5-476B-94E6-71C992BA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3F8B3-ED10-4EEE-B7D3-9C4965C9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A63C79-5146-451E-AFC7-8FB66F2D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1BB6B-541D-461A-9E45-5570E14A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B30E-780B-4BD0-B4F1-FCCDD078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F2653-9534-4287-A67F-BDC19E9B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D40AE-4F6C-4F82-8801-BD1B4899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641FF-3EA6-4066-A13B-695216E1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C92D07-A2AD-4876-AD70-F21EA2D1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0CDFF-318F-427C-B21B-E168F2B7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EDF32D-BA66-4B75-A0FD-66BD8DC9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33181-4D3A-420A-BADD-5B155BDD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AD8F5-87B8-405C-831B-30D48126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4649C-680C-4F70-A1C3-F275C40E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7CF4ED-E6BC-4504-8C07-BA4D828A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3617-D1A8-406C-A13E-82B424DE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99FDA1-B434-4CCF-97F9-36CAEC16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D4EF9-07F3-434F-8A14-E550CDC5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ADCFC-DBB6-4F9F-B6A9-D211C0C9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A4C023-87B0-4476-8B3F-3CD21282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3054C-F6C8-4333-A529-249CE3EC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07BAC-F96B-4CE8-AD82-B0DD3658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7A2DC-A827-436F-ADC9-12C5E06C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B6DAA8-F0E5-420E-87BD-7E3A36CA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65C1E-3DB3-471E-A05C-05B201C2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F0488-7E4B-473D-8AE8-57065D4F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6E80-17DC-47B9-9007-4572777B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BE49D-8E71-46BC-A584-C5C279FF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3FC6A-56E8-4D85-8B42-55743930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3CE40-060F-46CD-8044-12AE7F5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7187DD-4313-46AD-81B9-933BE7E2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10BF31-E67F-43F7-A2F9-69E92FD4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D47040-4A21-444D-AF0F-ACE86792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EE110-1CB5-47FE-900E-6B0D4C44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DDC8D5-8CE4-45F3-83E4-224BCC9B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5CE16-5B23-4F35-8B2A-4665E9B3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E7F8FD-DF48-40CF-8C2D-53DA07A5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0245-C716-417E-92F1-046B544F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71C08E-E991-4281-905C-F5E1813B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BE6239-0918-47A4-BB56-C58A2CAD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6C871-67C9-4F21-9CFB-D473D5DD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489F6-B019-4823-A6E4-8AED2E92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A45F-A311-4CDF-A91D-91CEFFBF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5113-9296-4BE8-9293-D60EFC60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05C3-B19B-4AEA-98C5-6B535476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7AC-C6A3-40CD-9557-D07A4AF0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14585-0834-4C0E-9EF8-1842BBB5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015A-09D0-43F7-85EC-4EAB5691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D16F-B0C8-4411-8329-0149402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22C3E-E767-4EC0-B82C-3A506E53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C5FD-001E-4CE4-B7AE-C0ACE7A8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50F1-4112-48C6-865E-ACCA363B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9B89-7260-4CFD-B118-5BC72EB1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C80B-F5CE-4E56-82CE-3A3FA3DE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15FD-91F7-4C09-806E-13881FAD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E606-6BE1-4DF8-9E67-8F42BEE5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F91-DD3F-464B-883C-6DA9CD0A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4449-FA22-4D76-800C-AF32D81C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E9D3-0EA8-4DEB-BF2A-1A3A0100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8150-1FFA-428E-AEF1-2FD11FE6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906F6-DC56-4AB5-8C50-0B9256F9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FED60-F2EC-488C-BB46-C9AEE2E5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9A0CA-A883-4F89-ABD7-28252683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ABD71-E0E6-4B6A-8FAA-FCCE0237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F2893-B38B-4820-869E-7CF41BE1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EC468-ECE3-4FA8-8FE5-F47A9375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24A77-6419-4E81-9559-10DF81C9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AC2-60AE-40B8-B29C-DF727313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68136-E7E1-4B88-82D8-9B13A428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4B84F-A16A-4CD5-951D-B768E731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17CBF-6F07-46EC-A7DC-6D07776E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B5176-A40C-4919-9230-741BDFAF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FE41-659E-4DDE-9D8E-3FC4762E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FED1B-CF45-4A0A-B7F8-E28087B0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2D3BA-B624-4DEA-93D8-00EB600C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6DF5-7A7D-473E-84B3-32451F59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D7FF5-53DA-4745-A4DF-4C9C32B9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A0AF6-7405-43C5-A448-71DD4342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1DF-30E8-4BF8-AA61-99854B95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5486B-7C1D-4BAE-B133-FE436C07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4A2BF-CC81-46AD-AF0B-562B28BE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6043F-2F7C-434A-95A3-FEB9E15F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36C02-213E-4BE8-B1AF-5B2F9109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85C02-5114-4ABF-A66D-A579F8EF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A83BE-747D-42A4-B2BE-EC9D3011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C0E35-2F65-4D76-A79F-763C18A3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51206-183E-4D28-825A-738BE91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5D01C-5876-4C7E-8593-C64CF242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B54AD-6C84-4917-8A9F-738685AF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1F0-1CA9-4F3B-B079-9213F85C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B302C-DF59-4A62-A55C-CFCE6E44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D8DDE-ED24-4586-A200-E5767BBC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84D38-3F14-4EBA-93D2-B4A380E7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4B56C-1639-4DE2-8151-643ABDFD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814ED-8DBB-45A8-BDDE-7DBB8F20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23B3E-5953-4E4B-9456-4296B85E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46D17-DF08-4DD9-9F18-53153F6C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3F59C-50C5-4220-984C-CE79E17B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8D7B5-846C-47E7-BB5A-7346B119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1324F-1EDB-43E6-94E5-638C2643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BBF-CAF4-42BD-B67A-E04E3AF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B137A-CA9D-45CE-BB7A-419464CE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47DDC-6872-4373-8E7E-171DAE4B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4D111-D936-4ED0-A585-55025C67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7B248-21DC-4758-B5BF-967DF6B4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5639F-2F5B-4E5A-86D0-3DD16B4B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DEE88-02DF-4CEA-87F0-02A43579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65A5B-5AE9-42F1-B3CF-7B42C01F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76890-D4B6-4727-8436-DDFD7574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019C6-FDD3-419D-81F1-F7B8C394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5BB93-A603-49F0-A0D3-22E4BF1A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776-817A-4BCD-95C4-B6F649E3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C147F-3054-44F6-BD4E-14FE18C1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6381A-3938-4721-A8C6-5DDCC6AC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D454C-D303-425D-ABE7-1CB1E11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9263B-4F88-4991-A1D6-B3C291C4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81B4D-4C2F-464B-8738-1E86C3D5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73F6A-1D7D-4B9D-A5D9-52033F13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82480-98C3-4921-B1D1-05DC586C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A9EDA-BAA7-4111-BB40-A70434E3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6DAAA-85DB-485F-8B18-3451B003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CB59A-1291-4409-817C-C46A8673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E57B-4CBF-4CE5-A334-556A5B074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FCB1-2490-4DD0-92AC-14DFF9413D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8FF4-9C18-4423-93B7-CEBD5FA1E3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BF73-FF93-44E8-B7B8-5487F8EB28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7E73-2116-4785-B0C2-0054CDA456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8798-C51A-46FC-A0B4-49C6C8FC85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A250-D818-4E52-A044-638E1F956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759F-5B5F-41A9-814E-EE30EB2B18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1C35-99FD-43D4-A554-421D5D6947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C358-8B39-49B0-8177-53DEE3C8DF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BD60-657F-4560-9886-6FDA21EF01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802F-6CA9-4B6F-937D-7894226670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DA41-371E-4FA3-9C85-E8F4334421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F8AB-5EE8-4EE0-91F6-94BD5B4650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69EA-CF86-4662-9A2D-22C67885F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F987-A0DD-4AD8-84A8-D963F7D54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A688-A76A-4903-A8E2-A242DA1D8C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C150-AFAE-4951-A0D8-483227B910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A643-9A2F-4A4E-AF5B-4166831330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8206-171B-4627-99B7-14878F35C7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BBF9-F941-4FB6-82B6-CEC798CE23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4A64-4B07-4538-9B9C-32F40B27AC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C112-D5E5-4963-8B89-E9836DBAFB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2F01-6333-4A56-8915-B352BE4868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A9B6-F9EA-45C6-90D6-F0B2C1004B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C45D-4BA3-49E6-BD2E-7C4B7C6B83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82C0-0A5F-48C7-B85C-159E44BA46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A8A9-2137-4E26-83BF-0DA1F47C0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AE78-CDFC-4074-A502-A8ABB5F129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C753-0BD6-4EF3-BA92-62E9BB8B5C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B313-B8E2-4146-B3D7-B057E8372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57CB-8EBD-47A0-8FFC-E21F41E4C0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A516-8987-4FFD-BE21-AF14E37D27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6AE8-261E-4BCC-A796-E233F1ED3C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DDF1-0308-412F-B8CE-BF988EA47D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3E9A-A9D3-4F47-8E20-50332945D7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A398-B17E-4D4B-B5DC-2D48B06FF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AB1E-13AE-4D6F-B6F4-0BCDA1D483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7A23-E6CC-453A-812F-4204EE5C65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A0C0-8603-4379-9260-78AE20CFFE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357120" y="3130560"/>
            <a:ext cx="82155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7934400" cy="52862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5000760" y="2786040"/>
            <a:ext cx="2886120" cy="905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000760" y="5022720"/>
            <a:ext cx="28861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Picture 3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6553440" cy="45626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5072040" y="2071800"/>
            <a:ext cx="2886120" cy="9046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3"/>
          <a:stretch/>
        </p:blipFill>
        <p:spPr>
          <a:xfrm>
            <a:off x="5072040" y="4357800"/>
            <a:ext cx="28861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3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8239320" cy="53625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5000760" y="2000160"/>
            <a:ext cx="2886120" cy="905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3"/>
          <a:stretch/>
        </p:blipFill>
        <p:spPr>
          <a:xfrm>
            <a:off x="1763640" y="537372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638840" cy="53625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1476360" y="34290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4"/>
          <a:stretch/>
        </p:blipFill>
        <p:spPr>
          <a:xfrm>
            <a:off x="1403280" y="486900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571680" y="1000080"/>
            <a:ext cx="8048520" cy="17622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"/>
          <p:cNvPicPr/>
          <p:nvPr/>
        </p:nvPicPr>
        <p:blipFill>
          <a:blip r:embed="rId2"/>
          <a:stretch/>
        </p:blipFill>
        <p:spPr>
          <a:xfrm>
            <a:off x="1171440" y="3029040"/>
            <a:ext cx="7543800" cy="34002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4"/>
          <a:stretch/>
        </p:blipFill>
        <p:spPr>
          <a:xfrm>
            <a:off x="4211640" y="3033720"/>
            <a:ext cx="108108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439640" cy="438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6"/>
          <a:stretch/>
        </p:blipFill>
        <p:spPr>
          <a:xfrm>
            <a:off x="7380360" y="5415120"/>
            <a:ext cx="1079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357120" y="758880"/>
            <a:ext cx="8305920" cy="60483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2257560" y="2092320"/>
            <a:ext cx="107928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3780000" y="2092320"/>
            <a:ext cx="107928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4"/>
          <a:stretch/>
        </p:blipFill>
        <p:spPr>
          <a:xfrm>
            <a:off x="1692360" y="3886200"/>
            <a:ext cx="165564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5"/>
          <a:stretch/>
        </p:blipFill>
        <p:spPr>
          <a:xfrm>
            <a:off x="3790800" y="388620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6"/>
          <a:stretch/>
        </p:blipFill>
        <p:spPr>
          <a:xfrm>
            <a:off x="2124000" y="566100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7"/>
          <a:stretch/>
        </p:blipFill>
        <p:spPr>
          <a:xfrm>
            <a:off x="3492360" y="566100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8"/>
          <a:stretch/>
        </p:blipFill>
        <p:spPr>
          <a:xfrm>
            <a:off x="2124000" y="623736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9"/>
          <a:stretch/>
        </p:blipFill>
        <p:spPr>
          <a:xfrm>
            <a:off x="3492360" y="625788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10"/>
          <a:stretch/>
        </p:blipFill>
        <p:spPr>
          <a:xfrm>
            <a:off x="4788000" y="6242040"/>
            <a:ext cx="1079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399960" y="838080"/>
            <a:ext cx="8344080" cy="58770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2"/>
          <a:stretch/>
        </p:blipFill>
        <p:spPr>
          <a:xfrm>
            <a:off x="1763640" y="2019240"/>
            <a:ext cx="6408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Picture 1" descr=""/>
          <p:cNvPicPr/>
          <p:nvPr/>
        </p:nvPicPr>
        <p:blipFill>
          <a:blip r:embed="rId1"/>
          <a:stretch/>
        </p:blipFill>
        <p:spPr>
          <a:xfrm>
            <a:off x="1068480" y="714240"/>
            <a:ext cx="7308720" cy="6110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2"/>
          <a:stretch/>
        </p:blipFill>
        <p:spPr>
          <a:xfrm>
            <a:off x="3635280" y="3541680"/>
            <a:ext cx="2016360" cy="438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"/>
          <p:cNvPicPr/>
          <p:nvPr/>
        </p:nvPicPr>
        <p:blipFill>
          <a:blip r:embed="rId3"/>
          <a:stretch/>
        </p:blipFill>
        <p:spPr>
          <a:xfrm>
            <a:off x="5651640" y="4108320"/>
            <a:ext cx="2016000" cy="438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4"/>
          <a:stretch/>
        </p:blipFill>
        <p:spPr>
          <a:xfrm>
            <a:off x="3851280" y="4684680"/>
            <a:ext cx="3816360" cy="438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5"/>
          <a:stretch/>
        </p:blipFill>
        <p:spPr>
          <a:xfrm>
            <a:off x="4140360" y="5249880"/>
            <a:ext cx="2016000" cy="438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6"/>
          <a:stretch/>
        </p:blipFill>
        <p:spPr>
          <a:xfrm>
            <a:off x="3543480" y="5826240"/>
            <a:ext cx="936360" cy="4381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7"/>
          <a:stretch/>
        </p:blipFill>
        <p:spPr>
          <a:xfrm>
            <a:off x="5807160" y="5826240"/>
            <a:ext cx="2016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8:0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